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voltage.wav" ContentType="audio/x-wav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D9A-BE4D-45B1-BE20-CBD2F557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9BD-ECD4-4CEE-A22D-59ADAC9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EE1-3023-4F9C-901A-2D603CA9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DFE-2DAC-46B2-81D2-FEB7C01B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032F-2C24-45DB-8B5B-55578CD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7ACD-0116-4B22-ABB8-3EF4494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3DFE-D738-4106-9DB5-B717CE8E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E5BF-EC1C-420C-94D6-F09223D5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9EA9-04B4-4A4F-8DAB-A506A79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6FAC-A93F-471D-87D7-F42CEBE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AA7-8AF3-4260-8EC6-52E99B6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DB9-38EE-47E4-A7B0-812CB63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3563-0363-4826-8638-284058F9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1D5-C8E6-4CF3-A459-9AB0B34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75FB-11B7-4DCF-81A4-EC3CC814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015-D403-4575-B908-C9EADC51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995-3AFE-4A96-AFDC-181EA3C1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AAB-0AE4-457F-8CC2-B7608A1B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3DE-BAA8-4E26-972A-535ACABC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B73-E0A7-48FF-8BAD-7D6D2BD8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806-34F3-4830-9AAE-593BA27F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A9D-0E51-4555-8643-94C9E3A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487-0B9F-48A2-A046-A3AE7E6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B77-C35D-48C8-8C76-12AD5E1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116-6BC8-474C-9ACE-C9B46211D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E3A-4B52-4972-BA15-7114E13D75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ectricity &amp; Magnet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, Currents,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Fields &amp; Electro Mag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rs &amp; Gen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e are 2 types of currents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rect Current (DC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Where electrons flow in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rection in a wi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600200" y="4038480"/>
            <a:ext cx="6324480" cy="22100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038480" y="3352680"/>
            <a:ext cx="1371600" cy="1371600"/>
          </a:xfrm>
          <a:custGeom>
            <a:avLst/>
            <a:gdLst>
              <a:gd name="textAreaLeft" fmla="*/ 565200 w 1371600"/>
              <a:gd name="textAreaRight" fmla="*/ 806400 w 137160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46 0.00208 C -0.04687 0.00693 -0.02899 0.00208 -0.04826 0.00208 C -0.05 0.00208 -0.05139 0.0037 -0.05312 0.00416 C -0.06128 0.00647 -0.07048 0.00717 -0.07847 0.00832 C -0.08732 0.00439 -0.1092 0.01133 -0.11823 0.01248 C -0.12482 0.0148 -0.12899 0.0178 -0.13559 0.0148 C -0.14618 0.01942 -0.15781 0.02104 -0.16909 0.02312 C -0.17205 0.02451 -0.17534 0.02589 -0.17847 0.02728 C -0.17986 0.02797 -0.18038 0.03052 -0.18159 0.03167 C -0.18298 0.03283 -0.18489 0.03306 -0.18645 0.03376 C -0.19409 0.03167 -0.19809 0.03399 -0.20538 0.03167 C -0.22152 0.03861 -0.21163 0.03561 -0.23559 0.03792 C -0.23854 0.04971 -0.23333 0.05896 -0.24357 0.06335 C -0.25139 0.06081 -0.2533 0.06381 -0.26093 0.06543 C -0.27274 0.06797 -0.28472 0.06867 -0.296 0.07399 C -0.29652 0.07884 -0.29687 0.08393 -0.29757 0.08878 C -0.29791 0.09087 -0.29774 0.09387 -0.29913 0.09503 C -0.30434 0.09896 -0.31076 0.09873 -0.31649 0.10127 C -0.32309 0.10728 -0.321 0.11029 -0.3276 0.11607 C -0.32812 0.11815 -0.3283 0.12069 -0.32934 0.12254 C -0.33159 0.12647 -0.33715 0.13318 -0.33715 0.13341 C -0.34166 0.15029 -0.33993 0.14127 -0.34201 0.16046 C -0.34149 0.17202 -0.34357 0.19399 -0.33559 0.20485 C -0.32812 0.21503 -0.3335 0.20393 -0.3276 0.21341 C -0.32222 0.22219 -0.32743 0.21826 -0.31979 0.22196 C -0.31701 0.22543 -0.30989 0.23468 -0.30711 0.23676 C -0.30243 0.24046 -0.29132 0.24185 -0.28645 0.243 C -0.27725 0.25526 -0.28211 0.25202 -0.27378 0.25572 C -0.27274 0.25711 -0.27135 0.25826 -0.27048 0.25988 C -0.26927 0.26196 -0.26875 0.26451 -0.26736 0.26636 C -0.26215 0.27352 -0.24357 0.27838 -0.23559 0.28115 C -0.22656 0.27792 -0.21823 0.28185 -0.20868 0.28324 C -0.2 0.28601 -0.1993 0.29063 -0.1927 0.29595 C -0.1842 0.30289 -0.17586 0.30474 -0.1658 0.30636 C -0.16041 0.30867 -0.1552 0.31052 -0.14982 0.31283 C -0.13107 0.32948 -0.1052 0.31699 -0.08316 0.32115 C -0.07135 0.32647 -0.0585 0.32878 -0.0467 0.32324 C -0.03437 0.32925 -0.04982 0.32324 -0.03715 0.32324 C -0.03385 0.32324 -0.03073 0.32624 -0.0276 0.32763 C -0.02604 0.32693 -0.02448 0.32532 -0.02291 0.32555 C -0.01961 0.32601 -0.01336 0.32971 -0.01336 0.32994 C 0.00556 0.32324 -0.01805 0.32971 -0.00225 0.32971 C 0.00157 0.32971 0.00521 0.32832 0.00868 0.32763 C 0.02552 0.33503 0.00122 0.32555 0.01841 0.32763 C 0.02917 0.32902 0.0408 0.33572 0.05174 0.33803 C 0.05851 0.3415 0.05886 0.33688 0.06598 0.34034 C 0.07691 0.33641 0.08785 0.33572 0.09931 0.33387 C 0.11025 0.33202 0.12153 0.32786 0.13264 0.32555 C 0.14306 0.32046 0.15469 0.32046 0.16598 0.31907 C 0.1757 0.31029 0.18091 0.31214 0.19445 0.31075 C 0.2033 0.30659 0.20938 0.30428 0.21841 0.30219 C 0.22743 0.29826 0.23681 0.29503 0.24532 0.28948 C 0.24844 0.2726 0.2566 0.27838 0.27066 0.27676 C 0.27639 0.27445 0.28264 0.27537 0.2882 0.2726 C 0.29202 0.27075 0.29427 0.26497 0.29775 0.26196 C 0.30191 0.25387 0.3007 0.25757 0.30243 0.24717 C 0.30295 0.2437 0.30209 0.2393 0.304 0.23676 C 0.3073 0.23237 0.32014 0.23029 0.32466 0.22821 C 0.32865 0.22312 0.3323 0.22219 0.33733 0.21965 C 0.33837 0.21826 0.33924 0.21641 0.34063 0.21549 C 0.34202 0.21433 0.3441 0.2148 0.34532 0.21341 C 0.34792 0.21063 0.34931 0.20601 0.35174 0.20277 C 0.35122 0.19214 0.35018 0.18173 0.35018 0.1711 C 0.35018 0.16902 0.35174 0.16693 0.35174 0.16485 C 0.35174 0.15699 0.35105 0.14913 0.35018 0.1415 C 0.34914 0.13179 0.34601 0.12115 0.34375 0.11191 C 0.34271 0.10774 0.33733 0.10913 0.3342 0.10774 C 0.32952 0.10566 0.32466 0.10335 0.31997 0.10127 C 0.31684 0.09988 0.31355 0.0985 0.31042 0.09711 C 0.30886 0.09641 0.30573 0.09503 0.30573 0.09526 C 0.30261 0.0689 0.30764 0.0874 0.29931 0.07607 C 0.29792 0.07422 0.29775 0.07098 0.29618 0.06959 C 0.29341 0.06728 0.28976 0.06682 0.28664 0.06543 C 0.28507 0.06474 0.28177 0.06335 0.28177 0.06358 C 0.26945 0.06659 0.27014 0.06196 0.25955 0.05688 C 0.25591 0.04948 0.2533 0.04508 0.24688 0.04208 C 0.2349 0.02613 0.21893 0.02497 0.20243 0.02312 C 0.19566 0.02011 0.18855 0.01688 0.1816 0.0148 C 0.17691 0.01341 0.16754 0.0104 0.16754 0.01063 C 0.15226 0.01549 0.13664 0.01572 0.12153 0.01248 C 0.11372 0.00555 0.10938 0.00578 0.09931 0.00416 C 0.079 0.00717 0.05886 0.00439 0.03889 1.90751E-006 C 0.0283 0.00231 0.01945 0.00069 0.00868 -0.00231 C 0.00174 0.00115 -0.00173 -0.00324 -0.00868 -0.00439 C -0.01545 -0.00555 -0.02239 -0.00578 -0.02934 -0.00648 C -0.03576 -0.00439 -0.03889 -0.00162 -0.04514 -0.00439 C -0.0625 -0.00116 -0.08003 -0.00023 -0.09757 0.00208 C -0.10173 0.00393 -0.10607 0.00416 -0.11024 0.00624 C -0.11666 0.00948 -0.12083 0.01803 -0.1276 0.02104 C -0.13333 0.02358 -0.15677 0.02497 -0.15781 0.0252 C -0.16684 0.02636 -0.18489 0.02959 -0.18489 0.02982 C -0.19218 0.02589 -0.19652 0.03075 -0.20382 0.03167 C -0.21284 0.03283 -0.22187 0.03306 -0.2309 0.03376 C -0.23125 0.03376 -0.24496 0.03491 -0.24826 0.03792 C -0.25017 0.03954 -0.25104 0.043 -0.25312 0.04439 C -0.25694 0.04693 -0.26163 0.0467 -0.2658 0.04855 C -0.26736 0.04994 -0.26875 0.05179 -0.27048 0.05271 C -0.27361 0.05456 -0.28003 0.05688 -0.28003 0.05711 C -0.2901 0.07121 -0.30243 0.07167 -0.3118 0.08878 C -0.31232 0.09225 -0.31198 0.09618 -0.31336 0.09919 C -0.31441 0.1015 -0.31718 0.10127 -0.31823 0.10358 C -0.31996 0.10728 -0.32031 0.11191 -0.32135 0.11607 C -0.32257 0.12092 -0.32934 0.1267 -0.32934 0.12693 C -0.33038 0.13087 -0.33142 0.13526 -0.33246 0.13942 C -0.33368 0.14428 -0.34201 0.14797 -0.34201 0.14821 C -0.34253 0.15006 -0.34288 0.15237 -0.34357 0.15422 C -0.34444 0.15653 -0.346 0.15815 -0.3467 0.16046 C -0.34809 0.16462 -0.34982 0.17318 -0.34982 0.17341 C -0.3493 0.18451 -0.35 0.19607 -0.34826 0.20717 C -0.34687 0.21526 -0.3309 0.21549 -0.3309 0.21572 C -0.32395 0.2215 -0.31649 0.22266 -0.30868 0.22613 C -0.30399 0.23491 -0.29861 0.23977 -0.29114 0.243 C -0.27604 0.25641 -0.24861 0.25942 -0.2309 0.26404 C -0.22361 0.27376 -0.23402 0.27191 -0.22604 0.28115 C -0.21371 0.29526 -0.19687 0.29549 -0.18159 0.29803 C -0.1717 0.30243 -0.16128 0.30404 -0.15156 0.30844 C -0.14843 0.30982 -0.14514 0.31144 -0.14201 0.31283 C -0.13784 0.31468 -0.12934 0.31699 -0.12934 0.31722 C -0.12187 0.3163 -0.11458 0.31491 -0.10711 0.31491 C -0.10486 0.31491 -0.10295 0.31699 -0.10069 0.31699 C -0.09218 0.31699 -0.08385 0.31376 -0.07534 0.31283 C -0.06041 0.31561 -0.04843 0.32508 -0.03402 0.32971 C -0.02274 0.33965 0.00504 0.3415 0.01684 0.34243 C 0.03681 0.34104 0.05452 0.33803 0.07379 0.33179 C 0.08889 0.33688 0.10938 0.32925 0.12466 0.32763 C 0.13438 0.32439 0.14358 0.32115 0.15313 0.31699 C 0.15799 0.31491 0.16111 0.30728 0.16598 0.30636 C 0.17605 0.30451 0.18611 0.30497 0.19601 0.30428 C 0.20764 0.29919 0.2191 0.29641 0.23108 0.29364 C 0.23855 0.29179 0.2448 0.28532 0.25174 0.28324 C 0.25695 0.28185 0.26233 0.28185 0.26754 0.28115 C 0.27726 0.27653 0.28785 0.27468 0.29775 0.27052 C 0.30573 0.26335 0.30903 0.25364 0.31841 0.24925 C 0.32118 0.2437 0.32205 0.24115 0.32622 0.23676 C 0.32917 0.23352 0.33577 0.22821 0.33577 0.22844 C 0.33802 0.21896 0.34028 0.2178 0.34688 0.21341 C 0.34983 0.18959 0.35105 0.16763 0.34844 0.14358 C 0.34636 0.12416 0.34636 0.13711 0.34219 0.12462 C 0.33941 0.11584 0.33889 0.10566 0.33577 0.09711 C 0.3316 0.08555 0.32396 0.08324 0.31511 0.08023 C 0.31094 0.07884 0.30243 0.07607 0.30243 0.0763 C 0.29723 0.0689 0.2875 0.06774 0.28021 0.06543 C 0.27396 0.06613 0.26754 0.06751 0.26129 0.06751 C 0.25764 0.06751 0.24775 0.0615 0.24532 0.06127 C 0.24011 0.06058 0.23473 0.05988 0.22952 0.05919 C 0.22639 0.0578 0.22084 0.05919 0.21997 0.0548 C 0.21771 0.04231 0.21632 0.043 0.2073 0.04 C 0.19723 0.03144 0.18247 0.02774 0.17049 0.0252 C 0.16754 0.02381 0.16441 0.02243 0.16111 0.02104 C 0.15955 0.02034 0.15799 0.01965 0.15643 0.01896 C 0.15469 0.01826 0.15157 0.01688 0.15157 0.01711 C 0.14393 0.00994 0.13664 0.00439 0.12795 0.00208 C 0.12622 0.00069 0.125 -0.00185 0.12309 -0.00231 C 0.12153 -0.00278 0.1198 -0.00046 0.11823 1.90751E-006 C 0.10903 0.00324 0.10018 0.00647 0.09132 0.0104 C 0.08282 0.0141 0.07327 0.01179 0.06441 0.01248 C 0.04966 0.0148 0.04566 0.01248 0.03108 0.0104 C 0.01268 -0.00509 -0.02361 0.00647 -0.04514 0.0104 C -0.05833 0.01641 -0.07118 0.01595 -0.08489 0.01896 C -0.09635 0.0215 -0.10729 0.02451 -0.11823 0.02959 C -0.13125 0.03561 -0.14566 0.03283 -0.15937 0.03376 C -0.17777 0.03722 -0.19566 0.03861 -0.21336 0.04647 C -0.21441 0.04855 -0.21493 0.05133 -0.21649 0.05271 C -0.21927 0.05503 -0.22604 0.05688 -0.22604 0.05711 C -0.23455 0.06821 -0.25034 0.06451 -0.26093 0.06543 C -0.26892 0.06797 -0.27552 0.0726 -0.28316 0.07607 C -0.28958 0.08416 -0.28298 0.07699 -0.29114 0.08231 C -0.29618 0.08555 -0.29878 0.09179 -0.30382 0.09503 C -0.30937 0.09873 -0.31458 0.10104 -0.31979 0.10566 C -0.32413 0.11422 -0.3309 0.12046 -0.33715 0.1267 C -0.33941 0.13618 -0.3427 0.14474 -0.34514 0.15422 C -0.34461 0.16693 -0.34444 0.17965 -0.34357 0.19237 C -0.34201 0.21618 -0.34479 0.23237 -0.3276 0.24092 C -0.32395 0.24277 -0.32014 0.24347 -0.31649 0.24508 C -0.30885 0.25202 -0.3033 0.24717 -0.29427 0.24508 C -0.28264 0.24717 -0.27274 0.24532 -0.26093 0.24717 C -0.25937 0.24786 -0.25764 0.24809 -0.25625 0.24925 C -0.25503 0.2504 -0.25451 0.25295 -0.25312 0.25364 C -0.2401 0.26034 -0.20955 0.25942 -0.20225 0.25988 C -0.19618 0.2726 -0.20034 0.27653 -0.18802 0.28115 C -0.17795 0.28971 -0.17343 0.28786 -0.15937 0.28948 C -0.14566 0.29549 -0.16909 0.28578 -0.14357 0.29364 C -0.14027 0.29456 -0.13715 0.29665 -0.13402 0.29803 C -0.13246 0.29873 -0.12934 0.30011 -0.12934 0.30034 C -0.12691 0.30312 -0.12378 0.3052 -0.12135 0.30844 C -0.11423 0.31815 -0.12274 0.31306 -0.11336 0.31699 C -0.09461 0.31584 -0.07882 0.31537 -0.06093 0.31075 C -0.04184 0.31422 -0.02309 0.31075 -0.00382 0.31283 C 0.00261 0.31491 0.00712 0.31907 0.01355 0.32115 C 0.01875 0.32832 0.02327 0.32809 0.03108 0.32971 C 0.05295 0.32555 0.07379 0.32277 0.09618 0.32115 C 0.12865 0.31584 0.16164 0.31815 0.19445 0.31283 C 0.20643 0.31098 0.20799 0.31144 0.21841 0.30844 C 0.22257 0.30728 0.22691 0.30566 0.23108 0.30428 C 0.23316 0.30358 0.23733 0.30219 0.23733 0.30243 C 0.2441 0.29364 0.24618 0.29341 0.25643 0.29156 C 0.25799 0.29017 0.25973 0.28902 0.26129 0.2874 C 0.26302 0.28555 0.26424 0.28277 0.26598 0.28115 C 0.27275 0.27491 0.28351 0.27399 0.29132 0.2726 C 0.29827 0.26959 0.30486 0.26797 0.31198 0.26636 C 0.31684 0.26404 0.31823 0.26451 0.32153 0.2578 C 0.32726 0.24647 0.32032 0.23954 0.33108 0.23029 C 0.33455 0.21665 0.32969 0.23006 0.33733 0.22196 C 0.33889 0.22034 0.33959 0.21757 0.34063 0.21549 C 0.34115 0.21341 0.34132 0.2111 0.34219 0.20925 C 0.34289 0.2074 0.34462 0.2067 0.34532 0.20485 C 0.34896 0.19491 0.35035 0.18173 0.35174 0.1711 C 0.35035 0.13595 0.35643 0.13456 0.34063 0.12046 C 0.3382 0.11052 0.33351 0.10682 0.32622 0.10358 C 0.3198 0.09456 0.31719 0.0948 0.3073 0.09295 C 0.30417 0.09156 0.30052 0.09133 0.29775 0.08878 C 0.29462 0.08601 0.2882 0.08023 0.2882 0.08046 C 0.28768 0.07815 0.28664 0.07607 0.28664 0.07399 C 0.28664 0.07121 0.2908 0.06404 0.28664 0.06127 C 0.2823 0.0585 0.25973 0.05549 0.25486 0.0548 C 0.24914 0.05225 0.23733 0.04855 0.23733 0.04878 C 0.22795 0.04023 0.23507 0.04508 0.21684 0.04208 C 0.20938 0.04092 0.19445 0.03792 0.19445 0.03815 C 0.18611 0.03445 0.18316 0.03607 0.17691 0.02728 C 0.17448 0.01688 0.17049 0.01688 0.16285 0.0148 C 0.15035 0.0037 0.13959 0.00046 0.12466 -0.00231 C 0.10504 -0.0111 0.06285 -0.00856 0.06285 -0.00833 C 0.05573 0.00462 0.04236 0.00624 0.03108 0.00832 C 0.01997 0.0037 0.00868 0.00254 -0.00225 0.00624 C -0.01614 0.00023 0.00712 0.00971 -0.02291 0.00208 C -0.02621 0.00115 -0.03246 -0.00231 -0.03246 -0.00208 C -0.03871 0.00069 -0.03871 -0.0007 -0.03246 0.00208 Z">
                                      <p:cBhvr>
                                        <p:cTn id="43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e are 2 types of currents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ternating Current (AC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electrons flow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rections in a w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066680" y="3962520"/>
            <a:ext cx="7391520" cy="2286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962520" y="3276720"/>
            <a:ext cx="1371600" cy="1371600"/>
          </a:xfrm>
          <a:custGeom>
            <a:avLst/>
            <a:gdLst>
              <a:gd name="textAreaLeft" fmla="*/ 565200 w 1371600"/>
              <a:gd name="textAreaRight" fmla="*/ 806400 w 137160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73 1.7341E-007 C -0.04739 0.00486 -0.02656 1.7341E-007 -0.04895 1.7341E-007 C -0.05104 1.7341E-007 -0.0526 0.00162 -0.05468 0.00208 C -0.06423 0.00439 -0.07482 0.00509 -0.0842 0.00624 C -0.09427 0.00231 -0.11979 0.00925 -0.13055 0.0104 C -0.13819 0.01272 -0.14288 0.01572 -0.15052 0.01272 C -0.16284 0.01734 -0.17639 0.01896 -0.18975 0.02104 C -0.19305 0.02243 -0.19687 0.02381 -0.20052 0.0252 C -0.20208 0.0259 -0.20277 0.02844 -0.20416 0.0296 C -0.20573 0.03075 -0.20798 0.03098 -0.20972 0.03168 C -0.21875 0.0296 -0.22343 0.03191 -0.23177 0.0296 C -0.25052 0.03653 -0.23923 0.03353 -0.26701 0.03584 C -0.27048 0.04763 -0.26441 0.05688 -0.27621 0.06127 C -0.28541 0.05873 -0.28767 0.06173 -0.29652 0.06335 C -0.31041 0.0659 -0.32413 0.06659 -0.33732 0.07191 C -0.33784 0.07676 -0.33819 0.08185 -0.33923 0.08671 C -0.33958 0.08879 -0.33941 0.09179 -0.34114 0.09295 C -0.34705 0.09688 -0.35451 0.09665 -0.36111 0.09919 C -0.36875 0.1052 -0.36632 0.10821 -0.37395 0.11399 C -0.37482 0.11607 -0.375 0.11861 -0.37604 0.12046 C -0.37864 0.12439 -0.38524 0.1311 -0.38524 0.13133 C -0.39045 0.14821 -0.38854 0.13919 -0.39097 0.15838 C -0.39027 0.16994 -0.3927 0.19191 -0.38333 0.20277 C -0.37482 0.21295 -0.3809 0.20185 -0.37395 0.21133 C -0.36788 0.22012 -0.37378 0.21618 -0.3651 0.21988 C -0.3618 0.22335 -0.35347 0.2326 -0.35017 0.23468 C -0.34479 0.23838 -0.33194 0.23977 -0.32621 0.24092 C -0.31562 0.25318 -0.32118 0.24994 -0.31145 0.25364 C -0.31041 0.25503 -0.30868 0.25618 -0.30746 0.2578 C -0.30625 0.25988 -0.30573 0.26243 -0.30399 0.26428 C -0.29791 0.27144 -0.27621 0.2763 -0.26701 0.27907 C -0.25659 0.27584 -0.24687 0.27977 -0.23559 0.28116 C -0.22569 0.28393 -0.22465 0.28855 -0.21701 0.29387 C -0.20711 0.30081 -0.19757 0.30266 -0.18576 0.30428 C -0.17951 0.30659 -0.17343 0.30844 -0.16718 0.31075 C -0.14531 0.3274 -0.11527 0.31491 -0.08958 0.31907 C -0.07586 0.32439 -0.06076 0.32671 -0.04722 0.32116 C -0.03264 0.32717 -0.05086 0.32116 -0.03611 0.32116 C -0.03211 0.32116 -0.02864 0.32416 -0.02482 0.32555 C -0.02309 0.32486 -0.02135 0.32324 -0.01944 0.32347 C -0.01562 0.32393 -0.00833 0.32763 -0.00833 0.32786 C 0.01372 0.32116 -0.01371 0.32763 0.00452 0.32763 C 0.00903 0.32763 0.0132 0.32624 0.01736 0.32555 C 0.03698 0.33295 0.00868 0.32347 0.02848 0.32555 C 0.04115 0.32694 0.05452 0.33364 0.06736 0.33595 C 0.07535 0.33942 0.0757 0.3348 0.08403 0.33827 C 0.0967 0.33434 0.10955 0.33364 0.12275 0.33179 C 0.13559 0.32994 0.14861 0.32578 0.16164 0.32347 C 0.17379 0.31838 0.18716 0.31838 0.20035 0.31699 C 0.21181 0.30821 0.21771 0.31006 0.23351 0.30867 C 0.24375 0.30451 0.25087 0.3022 0.26146 0.30012 C 0.27188 0.29618 0.28282 0.29295 0.29271 0.2874 C 0.29636 0.27052 0.30573 0.2763 0.32223 0.27468 C 0.32882 0.27237 0.33611 0.27329 0.34271 0.27052 C 0.34705 0.26867 0.34966 0.26289 0.35382 0.25988 C 0.35868 0.25179 0.35712 0.25549 0.3592 0.24509 C 0.35973 0.24162 0.35886 0.23723 0.36111 0.23468 C 0.36476 0.23029 0.37986 0.22821 0.38507 0.22613 C 0.38976 0.22104 0.3941 0.22012 0.39983 0.21757 C 0.40105 0.21618 0.40209 0.21434 0.40365 0.21341 C 0.40521 0.21225 0.40764 0.21272 0.40903 0.21133 C 0.41216 0.20855 0.41372 0.20393 0.4165 0.20069 C 0.41598 0.19006 0.41476 0.17965 0.41476 0.16902 C 0.41476 0.16694 0.4165 0.16486 0.4165 0.16277 C 0.4165 0.15491 0.4158 0.14705 0.41476 0.13942 C 0.41355 0.12971 0.4099 0.11907 0.4073 0.10983 C 0.40608 0.10566 0.39983 0.10705 0.39618 0.10566 C 0.39063 0.10358 0.38507 0.10127 0.37969 0.09919 C 0.37605 0.0978 0.37205 0.09642 0.36858 0.09503 C 0.36667 0.09434 0.3632 0.09295 0.3632 0.09318 C 0.35938 0.06682 0.36528 0.08532 0.35556 0.07399 C 0.354 0.07214 0.35382 0.0689 0.35191 0.06751 C 0.34879 0.0652 0.34445 0.06474 0.3408 0.06335 C 0.33889 0.06266 0.33525 0.06127 0.33525 0.0615 C 0.32084 0.06451 0.32153 0.05988 0.30938 0.0548 C 0.30504 0.0474 0.30209 0.04301 0.29462 0.04 C 0.28056 0.02405 0.26198 0.02289 0.24289 0.02104 C 0.23507 0.01803 0.22657 0.0148 0.21858 0.01272 C 0.21302 0.01133 0.20226 0.00832 0.20226 0.00855 C 0.18438 0.01341 0.16632 0.01364 0.14861 0.0104 C 0.13959 0.00347 0.13455 0.0037 0.12275 0.00208 C 0.09914 0.00509 0.0757 0.00231 0.05261 -0.00208 C 0.04011 0.00023 0.02986 -0.00139 0.01736 -0.00439 C 0.0092 -0.00093 0.00521 -0.00532 -0.00295 -0.00647 C -0.01076 -0.00763 -0.01892 -0.00786 -0.02691 -0.00856 C -0.03437 -0.00647 -0.03819 -0.0037 -0.04531 -0.00647 C -0.06545 -0.00324 -0.08593 -0.00231 -0.10642 1.7341E-007 C -0.11128 0.00185 -0.11632 0.00208 -0.12118 0.00416 C -0.12864 0.0074 -0.1335 0.01595 -0.14132 0.01896 C -0.14791 0.0215 -0.17534 0.02289 -0.17639 0.02312 C -0.18715 0.02428 -0.20798 0.02751 -0.20798 0.02775 C -0.21649 0.02381 -0.22152 0.02867 -0.23003 0.0296 C -0.24045 0.03075 -0.25121 0.03098 -0.26163 0.03168 C -0.26198 0.03168 -0.27795 0.03283 -0.28177 0.03584 C -0.28385 0.03746 -0.28507 0.04092 -0.2875 0.04231 C -0.29184 0.04486 -0.29722 0.04462 -0.30208 0.04647 C -0.30399 0.04786 -0.30573 0.04971 -0.30746 0.05064 C -0.31128 0.05249 -0.31875 0.0548 -0.31875 0.05503 C -0.33038 0.06913 -0.34479 0.0696 -0.35573 0.08671 C -0.35625 0.09017 -0.3559 0.0941 -0.35764 0.09711 C -0.35868 0.09942 -0.36198 0.09919 -0.36319 0.1015 C -0.36527 0.1052 -0.36562 0.10983 -0.36684 0.11399 C -0.36823 0.11884 -0.37604 0.12462 -0.37604 0.12486 C -0.37743 0.12879 -0.37847 0.13318 -0.37986 0.13734 C -0.38107 0.1422 -0.39097 0.1459 -0.39097 0.14613 C -0.39149 0.14798 -0.39184 0.15029 -0.3927 0.15214 C -0.39375 0.15445 -0.39566 0.15607 -0.39635 0.15838 C -0.39809 0.16254 -0.39982 0.1711 -0.39982 0.17133 C -0.3993 0.18243 -0.4 0.19399 -0.39826 0.20509 C -0.39652 0.21318 -0.37795 0.21341 -0.37795 0.21364 C -0.36996 0.21942 -0.36111 0.22058 -0.35208 0.22405 C -0.3467 0.23283 -0.34027 0.23769 -0.33177 0.24092 C -0.31406 0.25434 -0.28229 0.25734 -0.26163 0.26197 C -0.25295 0.27168 -0.26527 0.26983 -0.2559 0.27907 C -0.24166 0.29318 -0.22187 0.29341 -0.20416 0.29595 C -0.1927 0.30035 -0.18055 0.30197 -0.16927 0.30636 C -0.16545 0.30775 -0.1618 0.30936 -0.15798 0.31075 C -0.15312 0.3126 -0.1434 0.31491 -0.1434 0.31514 C -0.13455 0.31422 -0.12621 0.31283 -0.11736 0.31283 C -0.11475 0.31283 -0.11267 0.31491 -0.11007 0.31491 C -0.10017 0.31491 -0.09045 0.31168 -0.08055 0.31075 C -0.06302 0.31353 -0.04913 0.32301 -0.03229 0.32763 C -0.01927 0.33757 0.01302 0.33942 0.02691 0.34035 C 0.05018 0.33896 0.07066 0.33595 0.09323 0.32971 C 0.11059 0.3348 0.13455 0.32717 0.15243 0.32555 C 0.16355 0.32231 0.17431 0.31907 0.18542 0.31491 C 0.19115 0.31283 0.1948 0.3052 0.20035 0.30428 C 0.21216 0.30243 0.22379 0.30289 0.23542 0.3022 C 0.24879 0.29711 0.26216 0.29434 0.27622 0.29156 C 0.2849 0.28971 0.29219 0.28324 0.30018 0.28116 C 0.30625 0.27977 0.3125 0.27977 0.31858 0.27907 C 0.33004 0.27445 0.34219 0.2726 0.35382 0.26844 C 0.3632 0.26127 0.36684 0.25156 0.37778 0.24717 C 0.38108 0.24162 0.38212 0.23907 0.38698 0.23468 C 0.39028 0.23144 0.39792 0.22613 0.39792 0.22636 C 0.40052 0.21688 0.4033 0.21572 0.41094 0.21133 C 0.41441 0.18751 0.4158 0.16555 0.41285 0.1415 C 0.41042 0.12208 0.41042 0.13503 0.40556 0.12254 C 0.40226 0.11376 0.40174 0.10358 0.39792 0.09503 C 0.39306 0.08347 0.38438 0.08116 0.37396 0.07815 C 0.3691 0.07676 0.3592 0.07399 0.3592 0.07422 C 0.35313 0.06682 0.34184 0.06566 0.33334 0.06335 C 0.32605 0.06405 0.31858 0.06543 0.31129 0.06543 C 0.30712 0.06543 0.29549 0.05942 0.29271 0.05919 C 0.28664 0.0585 0.28039 0.0578 0.27431 0.05711 C 0.27084 0.05572 0.26424 0.05711 0.2632 0.05272 C 0.26059 0.04023 0.25903 0.04092 0.24844 0.03792 C 0.23664 0.02936 0.21962 0.02566 0.20556 0.02312 C 0.20226 0.02173 0.19861 0.02035 0.1948 0.01896 C 0.19289 0.01827 0.19115 0.01757 0.18924 0.01688 C 0.18716 0.01618 0.18368 0.0148 0.18368 0.01503 C 0.17466 0.00786 0.16632 0.00231 0.15608 1.7341E-007 C 0.154 -0.00139 0.15278 -0.00393 0.15052 -0.00439 C 0.14861 -0.00486 0.14653 -0.00254 0.1448 -0.00208 C 0.13403 0.00116 0.12379 0.00439 0.11337 0.00832 C 0.10365 0.01202 0.09236 0.00971 0.08212 0.0104 C 0.06511 0.01272 0.06042 0.0104 0.04341 0.00832 C 0.02205 -0.00717 -0.02031 0.00439 -0.04531 0.00832 C -0.06059 0.01434 -0.07569 0.01387 -0.09149 0.01688 C -0.10503 0.01942 -0.1177 0.02243 -0.13055 0.02751 C -0.14548 0.03353 -0.16232 0.03075 -0.1783 0.03168 C -0.19982 0.03514 -0.22066 0.03653 -0.24114 0.04439 C -0.24236 0.04647 -0.24288 0.04925 -0.24479 0.05064 C -0.24791 0.05295 -0.2559 0.0548 -0.2559 0.05503 C -0.2658 0.06613 -0.2842 0.06243 -0.29652 0.06335 C -0.3059 0.0659 -0.31354 0.07052 -0.32239 0.07399 C -0.32986 0.08208 -0.32222 0.07491 -0.33177 0.08023 C -0.3375 0.08347 -0.34045 0.08971 -0.34652 0.09295 C -0.35295 0.09665 -0.35885 0.09896 -0.3651 0.10358 C -0.37014 0.11214 -0.37795 0.11838 -0.38524 0.12462 C -0.38784 0.1341 -0.39166 0.14266 -0.39444 0.15214 C -0.39392 0.16486 -0.39375 0.17757 -0.3927 0.19029 C -0.39097 0.2141 -0.39409 0.23029 -0.37395 0.23884 C -0.36996 0.24069 -0.36545 0.24139 -0.36111 0.24301 C -0.35225 0.24994 -0.34583 0.24509 -0.33524 0.24301 C -0.3217 0.24509 -0.31041 0.24324 -0.29652 0.24509 C -0.29461 0.24578 -0.2927 0.24601 -0.29097 0.24717 C -0.28975 0.24832 -0.28906 0.25087 -0.2875 0.25156 C -0.27239 0.25827 -0.2368 0.25734 -0.2283 0.2578 C -0.22118 0.27052 -0.22604 0.27445 -0.21163 0.27907 C -0.2 0.28763 -0.19479 0.28578 -0.1783 0.2874 C -0.16232 0.29341 -0.18975 0.2837 -0.15989 0.29156 C -0.1559 0.29249 -0.15243 0.29457 -0.14878 0.29595 C -0.14705 0.29665 -0.1434 0.29803 -0.1434 0.29827 C -0.14045 0.30104 -0.1368 0.30312 -0.13402 0.30636 C -0.12586 0.31607 -0.13576 0.31098 -0.12465 0.31491 C -0.10295 0.31376 -0.08455 0.31329 -0.06389 0.30867 C -0.04149 0.31214 -0.01961 0.30867 0.00278 0.31075 C 0.01025 0.31283 0.01545 0.31699 0.02292 0.31907 C 0.02917 0.32624 0.03438 0.32601 0.04341 0.32763 C 0.06875 0.32347 0.09323 0.32069 0.11927 0.31907 C 0.15695 0.31376 0.19532 0.31607 0.23351 0.31075 C 0.24757 0.3089 0.24931 0.30936 0.26146 0.30636 C 0.26632 0.3052 0.27136 0.30358 0.27622 0.3022 C 0.27865 0.3015 0.28351 0.30012 0.28351 0.30035 C 0.29132 0.29156 0.29375 0.29133 0.30556 0.28948 C 0.30747 0.28809 0.30955 0.28694 0.31129 0.28532 C 0.31337 0.28347 0.31476 0.28069 0.31684 0.27907 C 0.32466 0.27283 0.33733 0.27191 0.34636 0.27052 C 0.35434 0.26751 0.36198 0.2659 0.37032 0.26428 C 0.37605 0.26197 0.37761 0.26243 0.38143 0.25572 C 0.38802 0.24439 0.38004 0.23746 0.39254 0.22821 C 0.3967 0.21457 0.3908 0.22798 0.39983 0.21988 C 0.40174 0.21827 0.40243 0.21549 0.40365 0.21341 C 0.40434 0.21133 0.40452 0.20902 0.40556 0.20717 C 0.40625 0.20532 0.40834 0.20462 0.40903 0.20277 C 0.41337 0.19283 0.41511 0.17965 0.4165 0.16902 C 0.41511 0.13387 0.42205 0.13249 0.40365 0.11838 C 0.40087 0.10844 0.39532 0.10474 0.38698 0.1015 C 0.37952 0.09249 0.37639 0.09272 0.36476 0.09087 C 0.36129 0.08948 0.35695 0.08925 0.35382 0.08671 C 0.35018 0.08393 0.34271 0.07815 0.34271 0.07838 C 0.34202 0.07607 0.3408 0.07399 0.3408 0.07191 C 0.3408 0.06913 0.34566 0.06197 0.3408 0.05919 C 0.33577 0.05642 0.30955 0.05341 0.304 0.05272 C 0.29723 0.05017 0.28351 0.04647 0.28351 0.04671 C 0.2724 0.03815 0.28091 0.04301 0.25955 0.04 C 0.25087 0.03884 0.23351 0.03584 0.23351 0.03607 C 0.22379 0.03237 0.22032 0.03399 0.21302 0.0252 C 0.21025 0.0148 0.20556 0.0148 0.1967 0.01272 C 0.18212 0.00162 0.16962 -0.00162 0.15243 -0.00439 C 0.12952 -0.01318 0.08021 -0.01064 0.08021 -0.0104 C 0.07205 0.00254 0.05643 0.00416 0.04341 0.00624 C 0.03039 0.00162 0.01736 0.00046 0.00452 0.00416 C -0.01163 -0.00185 0.01545 0.00763 -0.01944 1.7341E-007 C -0.02326 -0.00093 -0.03073 -0.00439 -0.03073 -0.00416 C -0.03802 -0.00139 -0.03802 -0.00277 -0.03073 1.7341E-007 Z">
                                      <p:cBhvr>
                                        <p:cTn id="49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e are 2 types of circuits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ries Circui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the components are lined up along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ath.  If the circuit is broken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 turn of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ries Circu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4" descr="j0278890"/>
          <p:cNvPicPr/>
          <p:nvPr/>
        </p:nvPicPr>
        <p:blipFill>
          <a:blip r:embed="rId1"/>
          <a:stretch/>
        </p:blipFill>
        <p:spPr>
          <a:xfrm>
            <a:off x="762120" y="4257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9"/>
          <p:cNvSpPr/>
          <p:nvPr/>
        </p:nvSpPr>
        <p:spPr>
          <a:xfrm>
            <a:off x="1447920" y="3886200"/>
            <a:ext cx="7493040" cy="1676520"/>
          </a:xfrm>
          <a:custGeom>
            <a:avLst/>
            <a:gdLst>
              <a:gd name="textAreaLeft" fmla="*/ 0 w 7493040"/>
              <a:gd name="textAreaRight" fmla="*/ 7493400 w 74930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4720" h="1056">
                <a:moveTo>
                  <a:pt x="0" y="720"/>
                </a:moveTo>
                <a:cubicBezTo>
                  <a:pt x="144" y="456"/>
                  <a:pt x="288" y="192"/>
                  <a:pt x="528" y="96"/>
                </a:cubicBezTo>
                <a:cubicBezTo>
                  <a:pt x="768" y="0"/>
                  <a:pt x="1136" y="136"/>
                  <a:pt x="1440" y="144"/>
                </a:cubicBezTo>
                <a:cubicBezTo>
                  <a:pt x="1744" y="152"/>
                  <a:pt x="2048" y="144"/>
                  <a:pt x="2352" y="144"/>
                </a:cubicBezTo>
                <a:cubicBezTo>
                  <a:pt x="2656" y="144"/>
                  <a:pt x="2968" y="144"/>
                  <a:pt x="3264" y="144"/>
                </a:cubicBezTo>
                <a:cubicBezTo>
                  <a:pt x="3560" y="144"/>
                  <a:pt x="3984" y="8"/>
                  <a:pt x="4128" y="144"/>
                </a:cubicBezTo>
                <a:cubicBezTo>
                  <a:pt x="4272" y="280"/>
                  <a:pt x="4720" y="864"/>
                  <a:pt x="4128" y="960"/>
                </a:cubicBezTo>
                <a:cubicBezTo>
                  <a:pt x="3536" y="1056"/>
                  <a:pt x="1160" y="760"/>
                  <a:pt x="576" y="72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tebulb"/>
          <p:cNvSpPr/>
          <p:nvPr/>
        </p:nvSpPr>
        <p:spPr>
          <a:xfrm>
            <a:off x="3352680" y="3048120"/>
            <a:ext cx="776520" cy="1242720"/>
          </a:xfrm>
          <a:custGeom>
            <a:avLst/>
            <a:gdLst>
              <a:gd name="textAreaLeft" fmla="*/ 127800 w 776520"/>
              <a:gd name="textAreaRight" fmla="*/ 657360 w 776520"/>
              <a:gd name="textAreaTop" fmla="*/ 125640 h 1242720"/>
              <a:gd name="textAreaBottom" fmla="*/ 533880 h 124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tebulb"/>
          <p:cNvSpPr/>
          <p:nvPr/>
        </p:nvSpPr>
        <p:spPr>
          <a:xfrm>
            <a:off x="4800600" y="3124080"/>
            <a:ext cx="776160" cy="124308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3080"/>
              <a:gd name="textAreaBottom" fmla="*/ 534240 h 12430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tebulb"/>
          <p:cNvSpPr/>
          <p:nvPr/>
        </p:nvSpPr>
        <p:spPr>
          <a:xfrm>
            <a:off x="6248520" y="3124080"/>
            <a:ext cx="776160" cy="124308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3080"/>
              <a:gd name="textAreaBottom" fmla="*/ 534240 h 12430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tebulb"/>
          <p:cNvSpPr/>
          <p:nvPr/>
        </p:nvSpPr>
        <p:spPr>
          <a:xfrm>
            <a:off x="7620120" y="3048120"/>
            <a:ext cx="776160" cy="124272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2720"/>
              <a:gd name="textAreaBottom" fmla="*/ 533880 h 124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e are 2 types of circuits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allel Circui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ere ar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ver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ranching paths to the components.  If the circuit is broken at any one branch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ly the components on that branch will turn o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278890"/>
          <p:cNvPicPr/>
          <p:nvPr/>
        </p:nvPicPr>
        <p:blipFill>
          <a:blip r:embed="rId1"/>
          <a:stretch/>
        </p:blipFill>
        <p:spPr>
          <a:xfrm>
            <a:off x="152280" y="4495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Line 18"/>
          <p:cNvSpPr/>
          <p:nvPr/>
        </p:nvSpPr>
        <p:spPr>
          <a:xfrm>
            <a:off x="1752480" y="5257800"/>
            <a:ext cx="632484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V="1">
            <a:off x="2514600" y="3505320"/>
            <a:ext cx="0" cy="17524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 flipV="1">
            <a:off x="4343400" y="3429000"/>
            <a:ext cx="0" cy="18288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1"/>
          <p:cNvSpPr/>
          <p:nvPr/>
        </p:nvSpPr>
        <p:spPr>
          <a:xfrm flipV="1">
            <a:off x="6400800" y="3429000"/>
            <a:ext cx="0" cy="18288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8077320" y="3429000"/>
            <a:ext cx="0" cy="18288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838080" y="16765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2514600" y="1676520"/>
            <a:ext cx="0" cy="1752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 flipV="1">
            <a:off x="4343400" y="1676520"/>
            <a:ext cx="0" cy="167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6400800" y="1676520"/>
            <a:ext cx="0" cy="167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8077320" y="1676520"/>
            <a:ext cx="0" cy="167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rallel Circu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Litebulb"/>
          <p:cNvSpPr/>
          <p:nvPr/>
        </p:nvSpPr>
        <p:spPr>
          <a:xfrm rot="5400000">
            <a:off x="2595240" y="2890800"/>
            <a:ext cx="776520" cy="1242720"/>
          </a:xfrm>
          <a:custGeom>
            <a:avLst/>
            <a:gdLst>
              <a:gd name="textAreaLeft" fmla="*/ 127800 w 776520"/>
              <a:gd name="textAreaRight" fmla="*/ 657360 w 776520"/>
              <a:gd name="textAreaTop" fmla="*/ 125640 h 1242720"/>
              <a:gd name="textAreaBottom" fmla="*/ 533880 h 124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tebulb"/>
          <p:cNvSpPr/>
          <p:nvPr/>
        </p:nvSpPr>
        <p:spPr>
          <a:xfrm rot="5400000">
            <a:off x="4424400" y="2738520"/>
            <a:ext cx="776160" cy="124272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2720"/>
              <a:gd name="textAreaBottom" fmla="*/ 533880 h 124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tebulb"/>
          <p:cNvSpPr/>
          <p:nvPr/>
        </p:nvSpPr>
        <p:spPr>
          <a:xfrm rot="5188800">
            <a:off x="6405120" y="2738160"/>
            <a:ext cx="776160" cy="124308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3080"/>
              <a:gd name="textAreaBottom" fmla="*/ 534240 h 12430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tebulb"/>
          <p:cNvSpPr/>
          <p:nvPr/>
        </p:nvSpPr>
        <p:spPr>
          <a:xfrm rot="5400000">
            <a:off x="8133840" y="2738160"/>
            <a:ext cx="776160" cy="1243080"/>
          </a:xfrm>
          <a:custGeom>
            <a:avLst/>
            <a:gdLst>
              <a:gd name="textAreaLeft" fmla="*/ 127800 w 776160"/>
              <a:gd name="textAreaRight" fmla="*/ 657000 w 776160"/>
              <a:gd name="textAreaTop" fmla="*/ 125640 h 1243080"/>
              <a:gd name="textAreaBottom" fmla="*/ 534240 h 12430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uctors vs. Insula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duct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material through which electric current flow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asi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sulat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materials through which electric curren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nnot mo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duct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sulat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yrofo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bb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Resistanc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ppos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flow of an electric current, producing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a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re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resistance,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urrent gets throug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nductors hav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sistan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d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h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nfluences Resistanc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terial of wi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aluminum and copper have low re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ckn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e thicker the wire the lower the re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ng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shorter wire has lower re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lower temperature has lower re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tr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itive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g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gative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g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Voltag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asure of energ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iven to the charge flowing in a circu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re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voltage,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reater the force or “pressure”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at drives the charge through the circu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erence b/t Volts and Am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 – you could say tha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mp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asur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mu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ater comes out of a ho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l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asur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h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 water comes out of a ho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1828800" y="3733920"/>
            <a:ext cx="5562720" cy="9903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2057400"/>
            <a:ext cx="8229600" cy="12952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hm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stance = Voltage / Cur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hms = Volts / A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 with Ohm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m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36"/>
          <p:cNvSpPr/>
          <p:nvPr/>
        </p:nvSpPr>
        <p:spPr>
          <a:xfrm>
            <a:off x="533520" y="2438280"/>
            <a:ext cx="2590560" cy="6098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533520" y="3200400"/>
            <a:ext cx="259056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533520" y="3962520"/>
            <a:ext cx="259056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9"/>
          <p:cNvSpPr/>
          <p:nvPr/>
        </p:nvSpPr>
        <p:spPr>
          <a:xfrm>
            <a:off x="3276720" y="4724280"/>
            <a:ext cx="2590560" cy="6098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6019920" y="5486400"/>
            <a:ext cx="259056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n electromagne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omagne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a magnet made from a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bearing co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wire wrapped around a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ron or steel c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generat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t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a machine that chang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chanic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ergy to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ic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ually us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v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nets to creat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coils of w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mot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t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a device that chang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ica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to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chanica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that can do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It !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located on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dges of atoms…they can b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v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centr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electrons in an atom creates a ne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electrons ar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ipp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way, the atom becom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itive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g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981080" y="33526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495680" y="4114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414680" y="28036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097320" y="37339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430440" y="23623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363400" y="20718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world is filled with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ical charg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354120" y="46483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249600" y="1523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6097320" y="4952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049200" y="3809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7011720" y="25909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162920" y="38098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8769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38080" y="2743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819520" y="2819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05740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334120" y="3124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3733920" y="5410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77724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362320" y="5105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4"/>
          <p:cNvSpPr/>
          <p:nvPr/>
        </p:nvSpPr>
        <p:spPr>
          <a:xfrm>
            <a:off x="1066680" y="3124080"/>
            <a:ext cx="3353040" cy="31244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is this electrical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called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c Electr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76520" y="4343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52680" y="4343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76720" y="49528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429000" y="36576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43200" y="3048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981080" y="36576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514600" y="48006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j0301252"/>
          <p:cNvPicPr/>
          <p:nvPr/>
        </p:nvPicPr>
        <p:blipFill>
          <a:blip r:embed="rId1"/>
          <a:srcRect l="8323" t="0" r="0" b="0"/>
          <a:stretch/>
        </p:blipFill>
        <p:spPr>
          <a:xfrm>
            <a:off x="5029200" y="3048120"/>
            <a:ext cx="3124080" cy="2914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3"/>
          <p:cNvSpPr/>
          <p:nvPr/>
        </p:nvSpPr>
        <p:spPr>
          <a:xfrm>
            <a:off x="7240320" y="4952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783120" y="43434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487840" y="46483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706800" y="51055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7392600" y="43434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ild up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electric charge on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rf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rge builds up bu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oes not fl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c electricity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tential energ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It do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.  It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o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Discharg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s when there is a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static electricity due to three possible thing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i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rubb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u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direct cont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u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through an electrical field (not direct conta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icity th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ve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The flow of electrons from one place to anoth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d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mpe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am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net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0216858"/>
          <p:cNvPicPr/>
          <p:nvPr/>
        </p:nvPicPr>
        <p:blipFill>
          <a:blip r:embed="rId1"/>
          <a:stretch/>
        </p:blipFill>
        <p:spPr>
          <a:xfrm>
            <a:off x="2590920" y="4419720"/>
            <a:ext cx="28954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7.39884E-006 C 0.01857 0.04509 0.03645 0.0518 0.07152 0.0696 C 0.09374 0.0807 0.11597 0.09226 0.13819 0.10336 C 0.19114 0.13064 0.2519 0.13457 0.30798 0.13943 C 0.32378 0.13804 0.3401 0.14035 0.35555 0.13527 C 0.35746 0.13457 0.35781 0.13087 0.35885 0.12856 C 0.36545 0.07469 0.35347 -0.000690000000000003 0.34617 -0.05502 C 0.34444 -0.06797 0.34479 -0.08115 0.34131 -0.0934 C 0.33246 -0.12346 0.32013 -0.15098 0.30954 -0.18011 C 0.30451 -0.19375 0.29687 -0.20508 0.29062 -0.2178 C 0.28749 -0.22404 0.28107 -0.23676 0.28107 -0.23676 C 0.27899 -0.25109 0.27482 -0.25294 0.2684 -0.26427 C 0.26371 -0.28161 0.25225 -0.28138 0.23975 -0.28554 C 0.21232 -0.28346 0.18472 -0.28115 0.15711 -0.27907 C 0.13611 -0.27745 0.09374 -0.27491 0.09374 -0.27491 C 0.06944 -0.27144 0.04617 -0.26242 0.02222 -0.25803 C -0.00209 -0.26011 -0.02188 -0.25664 -0.04601 -0.25155 C -0.07136 -0.23837 -0.09671 -0.22866 -0.12379 -0.22427 C -0.14619 -0.21641 -0.15383 -0.22543 -0.17448 -0.23468 C -0.2158 -0.25294 -0.25365 -0.2682 -0.2856 -0.31098 C -0.28924 -0.32369 -0.2948 -0.33572 -0.29688 -0.34913 C -0.30174 -0.38427 -0.304 -0.41918 -0.30782 -0.45456 C -0.30504 -0.50057 -0.31008 -0.55074 -0.31112 -0.59629 C -0.30817 -0.62843 -0.30261 -0.66126 -0.27778 -0.67444 C -0.26233 -0.67352 -0.24636 -0.67629 -0.2316 -0.67028 C -0.22865 -0.66913 -0.22657 -0.66566 -0.22379 -0.66381 C -0.20626 -0.65202 -0.20521 -0.64785 -0.19202 -0.63005 C -0.18542 -0.62103 -0.17848 -0.61733 -0.17292 -0.6067 C -0.16094 -0.58358 -0.16112 -0.58057 -0.15556 -0.55814 C -0.15886 -0.50843 -0.16025 -0.45433 -0.17935 -0.4104 C -0.1816 -0.39837 -0.18664 -0.38866 -0.18889 -0.37664 C -0.18994 -0.37086 -0.19185 -0.35953 -0.19358 -0.35514 C -0.19931 -0.34103 -0.19827 -0.34843 -0.20469 -0.34034 C -0.2132 -0.33017 -0.21997 -0.31699 -0.22848 -0.30658 C -0.23178 -0.30265 -0.23629 -0.30034 -0.23959 -0.29595 C -0.25209 -0.2793 -0.26285 -0.25664 -0.27778 -0.24323 C -0.28108 -0.24022 -0.28542 -0.23953 -0.28889 -0.23676 C -0.30556 -0.22381 -0.28924 -0.23398 -0.30157 -0.21988 C -0.3033 -0.2178 -0.30591 -0.21733 -0.30782 -0.21572 C -0.30903 -0.21456 -0.31008 -0.21294 -0.31112 -0.21155 C -0.31615 -0.21387 -0.3191 -0.21294 -0.31737 -0.22427 C -0.31563 -0.23606 -0.31025 -0.24647 -0.30782 -0.25803 C -0.30573 -0.2682 -0.30261 -0.29086 -0.30157 -0.30034 C -0.30035 -0.31121 -0.30139 -0.32115 -0.29514 -0.33017 C -0.26771 -0.36855 -0.20955 -0.37872 -0.17136 -0.38288 C -0.14758 -0.38866 -0.12379 -0.38681 -0.10001 -0.39121 C -0.07622 -0.38936 -0.07692 -0.39005 -0.05712 -0.38728 C -0.04289 -0.38496 -0.01424 -0.38057 -0.01424 -0.38057 C 0.00017 -0.37595 -0.00573 -0.37849 0.00329 -0.37456 C 0.01492 -0.34173 0.01683 -0.35768 0.05729 -0.35953 C 0.10173 -0.37109 0.14652 -0.38242 0.19218 -0.38728 C 0.22343 -0.39051 0.25468 -0.39121 0.28576 -0.3956 C 0.29808 -0.40022 0.30972 -0.40716 0.32222 -0.4104 C 0.3302 -0.41687 0.33784 -0.42358 0.34617 -0.42936 C 0.35208 -0.43329 0.36145 -0.43375 0.36666 -0.43583 C 0.38472 -0.443 0.39895 -0.45155 0.4144 -0.4652 C 0.42083 -0.47074 0.42569 -0.48647 0.4302 -0.49479 C 0.43211 -0.50959 0.43246 -0.50982 0.42552 -0.52022 C 0.42222 -0.52508 0.42048 -0.53225 0.41597 -0.53502 C 0.41145 -0.53803 0.40642 -0.53918 0.40173 -0.5415 C 0.39861 -0.54265 0.39218 -0.54566 0.39218 -0.54566 C 0.34531 -0.53988 0.41666 -0.54751 0.32395 -0.54566 C 0.25572 -0.54404 0.18749 -0.53294 0.11909 -0.53063 C 0.09201 -0.52392 0.08177 -0.52022 0.05555 -0.51791 C 0.05138 -0.51583 0.04861 -0.51121 0.04444 -0.50959 C 0.02291 -0.5015 -0.00035 -0.50011 -0.02223 -0.49479 C -0.0408 -0.4904 -0.05921 -0.48485 -0.07778 -0.47999 C -0.14705 -0.4282 -0.1224 -0.45479 -0.15886 -0.4104 C -0.16806 -0.38566 -0.17431 -0.36323 -0.17778 -0.33641 C -0.17726 -0.32624 -0.17466 -0.31629 -0.17605 -0.30658 C -0.17657 -0.30265 -0.19011 -0.28254 -0.19202 -0.27907 C -0.19705 -0.27005 -0.20105 -0.26011 -0.20626 -0.25155 C -0.21008 -0.24531 -0.21528 -0.24092 -0.21893 -0.23468 C -0.22848 -0.21826 -0.23369 -0.20184 -0.24601 -0.1882 C -0.25261 -0.18103 -0.26233 -0.16184 -0.2698 -0.15884 C -0.2724 -0.1482 -0.28525 -0.13941 -0.29046 -0.13132 C -0.29237 -0.12832 -0.29341 -0.12415 -0.29514 -0.12069 C -0.29914 -0.11329 -0.3033 -0.10612 -0.30782 -0.09941 C -0.31546 -0.08855 -0.3231 -0.07768 -0.3316 -0.06797 C -0.33594 -0.06311 -0.34063 -0.05872 -0.34445 -0.05294 C -0.3481 -0.04785 -0.35035 -0.04138 -0.35383 -0.03629 C -0.36077 -0.02612 -0.36876 -0.01641 -0.37605 -0.00647 C -0.37709 -0.003 -0.37796 0.0007 -0.37935 0.00394 C -0.38021 0.00648 -0.3823 0.00787 -0.38247 0.01018 C -0.38317 0.02197 -0.3816 0.02683 -0.37935 0.03561 C -0.38004 0.08579 -0.38698 0.14243 -0.37448 0.19238 C -0.37431 0.19307 -0.35018 0.20371 -0.34758 0.20486 C -0.33421 0.21134 -0.32188 0.22197 -0.30782 0.22613 C -0.28646 0.23261 -0.26424 0.23284 -0.24271 0.23677 C -0.23073 0.23099 -0.24792 0.23816 -0.22848 0.23677 C -0.22153 0.23631 -0.21476 0.23376 -0.20782 0.23238 C -0.19827 0.22382 -0.20174 0.20972 -0.20313 0.19654 C -0.20678 0.16209 -0.21216 0.12717 -0.22535 0.09689 C -0.22692 0.07862 -0.22865 0.06475 -0.2349 0.04856 C -0.23698 0.02775 -0.24046 0.01804 -0.2507 0.00209 C -0.25348 -0.01363 -0.25001 -0.00138 -0.26181 -0.01733 C -0.27379 -0.03329 -0.25122 -0.01086 -0.27136 -0.03398 C -0.28542 -0.05017 -0.30695 -0.04947 -0.32379 -0.05502 C -0.36928 -0.06959 -0.3349 -0.06311 -0.36337 -0.06797 C -0.37692 -0.07468 -0.39271 -0.07676 -0.40313 -0.09132 C -0.3599 -0.10543 -0.3158 -0.1045 -0.27136 -0.10589 C -0.24549 -0.10473 -0.21928 -0.10589 -0.19358 -0.1015 C -0.16719 -0.0971 -0.14219 -0.08346 -0.11598 -0.07837 C -0.0783 -0.0608 -0.0415 -0.04415 -0.00313 -0.02959 C 0.00746 -0.02589 0.01631 -0.01525 0.02708 -0.01294 C 0.03854 -0.01017 0.0335 -0.01178 0.04288 -0.00855 C 0.03107 0.02336 0.00503 0.03006 -0.01424 0.05249 C -0.02101 0.06035 -0.03733 0.07978 -0.04271 0.09504 C -0.04636 0.10521 -0.05226 0.12648 -0.05226 0.12648 C -0.05417 0.14891 -0.06389 0.20001 -0.0507 0.21758 C -0.04341 0.22729 -0.03073 0.22359 -0.02049 0.22405 C 0.01753 0.2259 0.05555 0.22544 0.09374 0.22613 C 0.14427 0.22937 0.19409 0.23954 0.24444 0.24509 C 0.26892 0.24278 0.26423 0.24255 0.28263 0.23238 C 0.28749 0.22243 0.29427 0.21781 0.30173 0.21134 C 0.30329 0.20995 0.30642 0.20717 0.30642 0.20717 C 0.30746 0.19585 0.30746 0.18428 0.30954 0.17295 C 0.31024 0.16949 0.31336 0.16787 0.3144 0.16486 C 0.31666 0.15793 0.31753 0.15053 0.31909 0.14336 C 0.31961 0.12856 0.31909 0.11353 0.32065 0.09897 C 0.32187 0.08741 0.32708 0.06544 0.32708 0.06544 C 0.32916 0.0407 0.33263 0.01388 0.32864 -0.01086 C 0.32708 -0.01965 0.32083 -0.02843 0.31909 -0.03837 C 0.31736 -0.04762 0.31736 -0.05872 0.31111 -0.06589 C 0.30815 -0.06889 0.30364 -0.06681 0.29999 -0.06797 C 0.29357 -0.06959 0.28749 -0.07236 0.28107 -0.07398 C 0.24045 -0.08624 0.19947 -0.09572 0.15885 -0.1082 C 0.08784 -0.12947 0.01666 -0.14681 -0.05556 -0.15884 C -0.05869 -0.16138 -0.06112 -0.16785 -0.06494 -0.16716 C -0.08195 -0.16415 -0.09202 -0.14889 -0.10626 -0.13965 C -0.12813 -0.12577 -0.15383 -0.11629 -0.17292 -0.09525 C -0.17639 -0.09132 -0.17917 -0.08624 -0.18264 -0.08277 C -0.19653 -0.06751 -0.21181 -0.05803 -0.21893 -0.03398 C -0.21945 -0.02843 -0.22067 -0.02311 -0.22049 -0.01733 C -0.2198 0.01457 -0.22553 0.06452 -0.19358 0.0696 C -0.18351 0.07122 -0.17362 0.07076 -0.16337 0.07145 C -0.15348 0.06613 -0.1448 0.05827 -0.1349 0.05249 C -0.13143 0.05041 -0.12744 0.05018 -0.12379 0.04856 C -0.11337 0.03793 -0.09705 0.03423 -0.08403 0.03145 C -0.07553 0.01966 -0.08907 0.037 -0.06667 0.02498 C -0.06442 0.02405 -0.06511 0.01897 -0.06337 0.01689 E">
                                      <p:cBhvr>
                                        <p:cTn id="6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can w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urrent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ircui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ircui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is a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flow of electrons.  We us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3886200"/>
            <a:ext cx="7238880" cy="2971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2666880" y="4495680"/>
            <a:ext cx="36576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4038480"/>
            <a:ext cx="5943600" cy="1905120"/>
          </a:xfrm>
          <a:prstGeom prst="ellipse">
            <a:avLst/>
          </a:prstGeom>
          <a:noFill/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j0216858"/>
          <p:cNvPicPr/>
          <p:nvPr/>
        </p:nvPicPr>
        <p:blipFill>
          <a:blip r:embed="rId1"/>
          <a:stretch/>
        </p:blipFill>
        <p:spPr>
          <a:xfrm>
            <a:off x="3505320" y="3809880"/>
            <a:ext cx="182700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Motion origin="layout" path="M 4.44444E-006 8.67052E-007 C -0.00973 0.00647 -0.02865 0.00346 -0.03803 0.00416 C -0.04271 0.00346 -0.04757 0.00185 -0.05226 0.00208 C -0.05764 0.00254 -0.06303 0.00439 -0.06823 0.00624 C -0.07032 0.00693 -0.0724 0.00809 -0.07448 0.00832 C -0.08612 0.00948 -0.09775 0.00971 -0.10938 0.0104 C -0.11684 0.00809 -0.12292 0.01156 -0.13004 0.00832 C -0.13994 0.00948 -0.1507 0.01387 -0.16025 0.0104 C -0.16337 0.01109 -0.1665 0.01271 -0.1698 0.01271 C -0.17153 0.01271 -0.17275 0.0104 -0.17448 0.0104 C -0.17622 0.0104 -0.17761 0.01225 -0.17934 0.01271 C -0.1948 0.01734 -0.20921 0.0215 -0.22379 0.02959 C -0.22587 0.03237 -0.22761 0.0356 -0.23004 0.03791 C -0.23143 0.0393 -0.23351 0.03884 -0.2349 0.04 C -0.23889 0.0437 -0.24202 0.04878 -0.24601 0.05271 C -0.25591 0.07306 -0.24028 0.04254 -0.25556 0.06543 C -0.26112 0.07375 -0.26216 0.08208 -0.26667 0.09086 C -0.26945 0.10242 -0.27101 0.11815 -0.27778 0.1267 C -0.27657 0.14982 -0.27969 0.1845 -0.2698 0.20508 C -0.2665 0.22289 -0.254 0.2252 -0.24271 0.23237 C -0.23733 0.25456 -0.22987 0.24994 -0.21424 0.25364 C -0.20886 0.25479 -0.20365 0.25664 -0.19827 0.2578 C -0.19514 0.25849 -0.19202 0.25919 -0.18889 0.25988 C -0.17987 0.26404 -0.17084 0.2645 -0.16181 0.26843 C -0.15869 0.26774 -0.15539 0.26543 -0.15226 0.26635 C -0.15018 0.26705 -0.14931 0.27098 -0.14757 0.2726 C -0.14566 0.27445 -0.14341 0.2756 -0.14115 0.27676 C -0.12917 0.28254 -0.12813 0.28138 -0.11424 0.28323 C -0.10504 0.29109 -0.0941 0.29479 -0.08403 0.30011 C -0.075 0.29618 -0.06112 0.30104 -0.05226 0.30219 C -0.03907 0.30566 -0.02622 0.3089 -0.01268 0.31075 C 0.00173 0.30612 0.01701 0.30566 0.03177 0.30427 C 0.04079 0.30196 0.04809 0.29942 0.05729 0.29803 C 0.06579 0.28924 0.06423 0.28393 0.07465 0.28739 C 0.10312 0.28439 0.1309 0.29017 0.15885 0.28115 C 0.17326 0.28601 0.15763 0.283 0.16996 0.27907 C 0.17517 0.27745 0.18055 0.27745 0.18576 0.27676 C 0.1927 0.27745 0.19947 0.27907 0.20642 0.27907 C 0.21892 0.27907 0.22361 0.27306 0.23333 0.26843 C 0.24843 0.26127 0.26701 0.25664 0.28263 0.25156 C 0.28836 0.24624 0.29409 0.24578 0.3 0.24092 C 0.31006 0.23237 0.3184 0.22173 0.32864 0.21341 C 0.3302 0.21063 0.33142 0.20763 0.33333 0.20508 C 0.33524 0.20254 0.33819 0.20161 0.33975 0.19861 C 0.34253 0.19352 0.34253 0.18242 0.34618 0.17757 C 0.34878 0.1741 0.35555 0.16901 0.35555 0.16901 C 0.35416 0.15607 0.35538 0.15075 0.34774 0.14358 C 0.34444 0.13063 0.33194 0.11607 0.32222 0.1119 C 0.31927 0.10797 0.3151 0.10589 0.31284 0.1015 C 0.30277 0.08161 0.32031 0.1045 0.30798 0.08439 C 0.30312 0.07653 0.2927 0.07468 0.28576 0.0719 C 0.27361 0.06705 0.26163 0.06242 0.2493 0.05919 C 0.23611 0.05017 0.25052 0.05896 0.23333 0.05271 C 0.22152 0.04855 0.21041 0.04346 0.19843 0.04 C 0.19114 0.02543 0.17378 0.02797 0.16197 0.0252 C 0.1552 0.0208 0.1434 0.01294 0.13663 0.0104 C 0.12378 0.00578 0.10434 0.00393 0.09062 0.00208 C 0.08472 -0.00047 0.07881 -0.00162 0.07309 -0.0044 C 0.06458 -0.00185 0.06093 -0.00463 0.05243 -0.00209 C 0.02048 -0.0037 -0.00278 -0.00625 -0.03334 -0.01064 C -0.04584 -0.01434 -0.0573 -0.01804 -0.0698 -0.02128 C -0.0724 -0.02197 -0.07778 -0.02336 -0.07778 -0.02336 C -0.09983 -0.01758 -0.12205 -0.01457 -0.14445 -0.01272 C -0.15296 -0.0081 -0.15747 -0.0044 -0.16667 -0.00209 C -0.17882 -0.00648 -0.17119 -0.00047 -0.18091 0.00416 C -0.1882 0.00763 -0.19566 0.00994 -0.20313 0.01271 C -0.21407 0.01711 -0.22761 0.01988 -0.23803 0.02751 C -0.24619 0.03352 -0.25244 0.0437 -0.26025 0.05063 C -0.2625 0.06566 -0.26511 0.07237 -0.26667 0.08878 C -0.26476 0.1126 -0.26146 0.13687 -0.26494 0.16069 C -0.26389 0.16508 -0.26094 0.16855 -0.26025 0.17317 C -0.25851 0.18566 -0.25973 0.19907 -0.25712 0.21133 C -0.25625 0.21526 -0.25261 0.21687 -0.2507 0.21988 C -0.23976 0.23699 -0.22553 0.23468 -0.20938 0.23676 C -0.20469 0.23791 -0.2 0.24 -0.19514 0.24092 C -0.18559 0.24254 -0.16667 0.24508 -0.16667 0.24508 C -0.15695 0.24924 -0.16389 0.24416 -0.16025 0.26427 C -0.15921 0.26982 -0.1533 0.28 -0.1507 0.28323 C -0.13698 0.29988 -0.11945 0.30566 -0.10157 0.30867 C -0.09271 0.30612 -0.09115 0.3045 -0.08091 0.30867 C -0.07796 0.30982 -0.07587 0.31375 -0.07292 0.31491 C -0.06146 0.3193 -0.04966 0.32185 -0.03803 0.32554 C -0.0349 0.32647 -0.0316 0.3267 -0.02848 0.32763 C -0.02101 0.33017 -0.00625 0.33595 -0.00625 0.33595 C 0.00798 0.33526 0.02239 0.33479 0.03663 0.33387 C 0.04618 0.33341 0.05572 0.33364 0.0651 0.33179 C 0.07013 0.33086 0.07951 0.32554 0.07951 0.32554 C 0.08958 0.31144 0.1059 0.31398 0.11909 0.31283 C 0.13316 0.31537 0.14618 0.31306 0.16041 0.31491 C 0.17777 0.31121 0.19531 0.30843 0.21284 0.30635 C 0.22725 0.30104 0.23697 0.29757 0.25243 0.29595 C 0.2677 0.28948 0.28975 0.2645 0.29687 0.24508 C 0.30052 0.23514 0.30138 0.2289 0.30642 0.21988 C 0.30694 0.21572 0.30694 0.21133 0.30798 0.20716 C 0.30937 0.20115 0.31475 0.19653 0.31753 0.19237 C 0.3342 0.16693 0.31441 0.19653 0.32395 0.17757 C 0.33576 0.15422 0.32187 0.1889 0.33177 0.16277 C 0.33333 0.15445 0.33559 0.14612 0.33177 0.13734 C 0.33107 0.13572 0.31649 0.12416 0.31441 0.12254 C 0.2967 0.10959 0.27691 0.10335 0.26041 0.0867 C 0.24722 0.07329 0.23524 0.05549 0.21909 0.04855 C 0.21006 0.04046 0.18732 0.04 0.18732 0.04 C 0.16822 0.02982 0.1927 0.04185 0.1684 0.03375 C 0.15503 0.02936 0.14618 0.02381 0.13333 0.02104 C 0.11822 0.01109 0.12517 0.0141 0.11284 0.0104 C 0.09166 -0.00602 0.05694 -0.00648 0.03333 -0.01272 C 0.00243 -0.00532 -0.02882 -0.0111 -0.06025 -0.00856 C -0.06997 -0.0118 -0.079 -0.0148 -0.08889 -0.01688 C -0.09202 -0.01758 -0.09514 -0.01804 -0.09827 -0.0192 C -0.10157 -0.02035 -0.10782 -0.02336 -0.10782 -0.02336 C -0.12327 -0.01341 -0.14341 -0.01041 -0.16025 -0.00648 C -0.17188 0.00046 -0.18455 0.00531 -0.19514 0.01479 C -0.21268 0.03052 -0.1948 0.01734 -0.20938 0.02751 C -0.21389 0.03607 -0.21789 0.03699 -0.22535 0.03375 C -0.23247 0.04092 -0.23716 0.04416 -0.24601 0.04647 C -0.25921 0.05826 -0.26025 0.06381 -0.26667 0.08231 C -0.26858 0.08809 -0.27292 0.09919 -0.27292 0.09919 C -0.2757 0.11422 -0.27761 0.12647 -0.28403 0.13942 C -0.28473 0.14219 -0.28716 0.1519 -0.28716 0.15422 C -0.28716 0.18913 -0.25921 0.19144 -0.23959 0.19653 C -0.23924 0.19722 -0.23334 0.21133 -0.23004 0.21341 C -0.22292 0.21803 -0.21389 0.21988 -0.20625 0.22196 C -0.19532 0.23653 -0.18143 0.23861 -0.16667 0.24092 C -0.15296 0.24994 -0.13698 0.24878 -0.12223 0.25364 C -0.10869 0.25803 -0.09497 0.26497 -0.08091 0.26635 C -0.05556 0.2689 -0.03004 0.26959 -0.00469 0.2726 C 0.00694 0.2689 -0.00035 0.27005 0.01753 0.27468 C 0.03263 0.27861 0.04843 0.2793 0.06354 0.28115 C 0.07204 0.28231 0.08888 0.28531 0.08888 0.28531 C 0.1052 0.29248 0.12638 0.28624 0.14288 0.28531 C 0.14479 0.28485 0.15295 0.28323 0.15555 0.28115 C 0.15781 0.2793 0.15954 0.27607 0.16197 0.27468 C 0.17743 0.26659 0.20538 0.26474 0.22222 0.26196 C 0.24947 0.25179 0.2125 0.2645 0.26354 0.25572 C 0.26857 0.25479 0.27291 0.25086 0.27777 0.24948 C 0.28732 0.24092 0.29531 0.23052 0.30486 0.22196 C 0.3059 0.22104 0.31319 0.21387 0.31441 0.21341 C 0.32222 0.20994 0.31753 0.21179 0.32864 0.20924 C 0.34045 0.20416 0.3368 0.20462 0.34618 0.19653 C 0.34722 0.19237 0.35 0.1882 0.3493 0.18381 C 0.34756 0.17156 0.34618 0.15768 0.34288 0.14589 C 0.34218 0.14358 0.34062 0.14173 0.33975 0.13942 C 0.33906 0.13734 0.33871 0.13526 0.33819 0.13317 C 0.33767 0.12393 0.33784 0.11468 0.33663 0.10566 C 0.33611 0.10242 0.33003 0.09456 0.32864 0.09294 C 0.32083 0.08416 0.30816 0.07815 0.29843 0.07398 C 0.29531 0.07121 0.2901 0.07028 0.28888 0.06543 C 0.28836 0.06335 0.28871 0.06057 0.28732 0.05919 C 0.27517 0.04693 0.25694 0.04531 0.24288 0.04 C 0.23854 0.03838 0.23454 0.03491 0.2302 0.03375 C 0.21822 0.03052 0.2059 0.02982 0.19375 0.02751 C 0.17708 0.0208 0.16232 0.01849 0.14444 0.01479 C 0.13767 0.01341 0.12395 0.0104 0.12395 0.0104 C 0.11111 0.00208 0.12395 0.00924 0.10329 0.00416 C 0.09218 0.00138 0.08072 -0.00162 0.06996 -0.00648 C 0.06059 -0.01827 0.04392 -0.01735 0.03177 -0.0192 C -0.01077 -0.01665 -0.05226 -0.02498 -0.09514 -0.02752 C -0.09983 -0.02683 -0.10487 -0.02706 -0.10938 -0.02544 C -0.11233 -0.02428 -0.11459 -0.02081 -0.11737 -0.0192 C -0.12049 -0.01735 -0.12362 -0.01596 -0.12691 -0.0148 C -0.14271 -0.00925 -0.15869 -0.00509 -0.17448 8.67052E-007 C -0.18195 0.00231 -0.18664 0.00739 -0.19358 0.0104 C -0.20244 0.02659 -0.20938 0.03144 -0.22223 0.04 C -0.23282 0.04693 -0.23507 0.04994 -0.24601 0.05271 C -0.24862 0.0541 -0.25105 0.05664 -0.25382 0.05711 C -0.25556 0.05734 -0.2573 0.05364 -0.25869 0.05479 C -0.26216 0.05757 -0.26355 0.06381 -0.26667 0.06751 C -0.27066 0.07237 -0.27657 0.07375 -0.28091 0.07815 C -0.28386 0.08115 -0.28629 0.08531 -0.28889 0.08878 C -0.29046 0.09086 -0.29358 0.09502 -0.29358 0.09502 C -0.29566 0.10358 -0.29844 0.10497 -0.30469 0.10774 C -0.30973 0.11768 -0.31146 0.12809 -0.31424 0.13942 C -0.31337 0.14867 -0.31181 0.15768 -0.31112 0.16693 C -0.30903 0.19213 -0.3125 0.20115 -0.29671 0.21133 C -0.29237 0.22011 -0.29063 0.22057 -0.28403 0.22612 C -0.28021 0.22936 -0.27744 0.23537 -0.27292 0.23676 C -0.254 0.243 -0.26459 0.24 -0.24115 0.24508 C -0.22205 0.24924 -0.21389 0.25202 -0.19202 0.25364 C -0.16754 0.26011 -0.20608 0.25017 -0.17136 0.2578 C -0.16528 0.25919 -0.1599 0.26312 -0.15382 0.26427 C -0.14011 0.26705 -0.1158 0.26774 -0.10469 0.26843 C -0.09948 0.26774 -0.0941 0.2652 -0.08889 0.26635 C -0.08733 0.26682 -0.08855 0.27144 -0.08716 0.2726 C -0.08438 0.27468 -0.08091 0.27398 -0.07778 0.27468 C -0.06737 0.28185 -0.05608 0.28693 -0.04445 0.28948 C -0.00816 0.28809 0.02604 0.28231 0.06197 0.27907 C 0.07934 0.28462 0.05763 0.27907 0.07465 0.27907 C 0.08003 0.27907 0.08524 0.28046 0.09062 0.28115 C 0.11753 0.27514 0.14444 0.27398 0.17152 0.2726 C 0.19114 0.26936 0.21076 0.27005 0.2302 0.26635 C 0.25225 0.25133 0.27048 0.23907 0.29531 0.23237 C 0.30312 0.23028 0.30572 0.2282 0.31284 0.22404 C 0.31579 0.22219 0.32222 0.21988 0.32222 0.21988 C 0.32465 0.21664 0.32621 0.21248 0.32864 0.20924 C 0.33263 0.20393 0.33819 0.19861 0.34288 0.19445 C 0.34409 0.18358 0.34583 0.17526 0.34774 0.16485 C 0.34722 0.1556 0.34774 0.14635 0.34618 0.13734 C 0.34513 0.13109 0.33975 0.12046 0.33975 0.12046 C 0.33593 0.09942 0.33402 0.09803 0.32222 0.08231 C 0.31788 0.07653 0.30434 0.07583 0.29843 0.07398 C 0.28125 0.0578 0.2618 0.05664 0.24131 0.05271 C 0.23368 0.04601 0.22482 0.0467 0.21597 0.04439 C 0.19947 0.02936 0.17031 0.03121 0.15086 0.02751 C 0.12604 0.0178 0.15138 0.0252 0.13177 0.0252 C 0.12743 0.0252 0.12343 0.02173 0.11909 0.02104 C 0.09861 0.01803 0.06857 0.01757 0.05086 0.01687 C 0.03628 0.0141 0.02534 0.00508 0.01111 0.00208 C 0.00434 -0.00093 0.00798 8.67052E-007 4.44444E-006 8.67052E-007 Z">
                                      <p:cBhvr>
                                        <p:cTn id="37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14:52Z</dcterms:created>
  <dc:creator>88345</dc:creator>
  <dc:description/>
  <dc:language>en-US</dc:language>
  <cp:lastModifiedBy> </cp:lastModifiedBy>
  <dcterms:modified xsi:type="dcterms:W3CDTF">2010-11-29T14:59:58Z</dcterms:modified>
  <cp:revision>21</cp:revision>
  <dc:subject/>
  <dc:title>Electricity &amp; Magnetism</dc:title>
</cp:coreProperties>
</file>